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26319"/>
        <c:axId val="47921808"/>
      </c:barChart>
      <c:catAx>
        <c:axId val="44226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21808"/>
        <c:crosses val="autoZero"/>
        <c:auto val="1"/>
        <c:lblAlgn val="ctr"/>
        <c:lblOffset val="100"/>
        <c:noMultiLvlLbl val="0"/>
      </c:catAx>
      <c:valAx>
        <c:axId val="47921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26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93E-C4AC-4FA7-A523-9E2779E8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A52-E8DE-4888-B616-0ED90E80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2AD-62F7-4D83-B6B2-A7448B1D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3DB-AA93-49CC-BF3D-FB6E355E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CC5-32DE-44B0-9E28-EB5D0EFD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559-EFCC-4C94-803B-DEC18D0A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C2B-E965-46BF-8C42-A62DAD3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3DD-5369-4DC3-938D-A271DCA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2B7-70C3-418A-B77E-1E434D73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EC4-46B2-427D-8A7B-D790F5E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796-6A18-4C92-A4B5-9BA4C396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B70-E0F4-43AE-B62D-B9A35D6D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19486-B762-4B72-8638-B62869A6C5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