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252023"/>
        <c:axId val="99301383"/>
      </c:barChart>
      <c:catAx>
        <c:axId val="952520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301383"/>
        <c:crosses val="autoZero"/>
        <c:auto val="1"/>
        <c:lblAlgn val="ctr"/>
        <c:lblOffset val="100"/>
        <c:noMultiLvlLbl val="0"/>
      </c:catAx>
      <c:valAx>
        <c:axId val="993013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2520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A193-0B3D-499D-BC45-A1D36E4E5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1D3D-4190-42F1-95FB-7FED3DCD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5620-DE8A-438D-8715-7D6600EA3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D898-1AD5-482B-AEC2-9158E61B9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8EE5-117A-4C15-8CD0-24261647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8DE3-011F-459E-95BF-8EB55E7C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D49F-3FBE-490F-B0D7-719930EA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BC75-F1F9-4E6E-872D-76709D69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F152-0080-4D31-99D5-E569E23D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D9B7-E2B3-4B84-9288-8F72201C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8C4E-DA08-4B84-BD7D-B304DE8A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3F98-E929-4C86-900D-A3385863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47FE16-C5EC-46EE-8292-EBEFCAE614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