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43317"/>
        <c:axId val="38020275"/>
      </c:barChart>
      <c:catAx>
        <c:axId val="37433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20275"/>
        <c:crosses val="autoZero"/>
        <c:auto val="1"/>
        <c:lblAlgn val="ctr"/>
        <c:lblOffset val="100"/>
        <c:noMultiLvlLbl val="0"/>
      </c:catAx>
      <c:valAx>
        <c:axId val="380202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33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481C-3760-4941-BA7F-CF3E5BAA8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A16D-7B09-4BDE-A22F-36E85042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F261-493D-49D2-B496-3FF164BC1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DC84-E6EF-4765-9054-22A848E44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07E5-B5FC-4275-B157-44D2B466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429C-BEA8-46D6-A790-E848F48A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7917-BD81-4644-8074-8432B18D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4298-D7A9-4DDD-B924-ED1EFAB6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C737-2E31-43B8-A091-0E838B92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3440-0B56-481E-8633-F3D0AFF0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845B-3175-4409-96A7-2E08F05C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BBA3-DD0B-4E45-8660-7133A36F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83E8A-315B-483E-9913-B035ADC038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