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4665"/>
        <c:axId val="42433699"/>
      </c:barChart>
      <c:catAx>
        <c:axId val="5704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33699"/>
        <c:crosses val="autoZero"/>
        <c:auto val="1"/>
        <c:lblAlgn val="ctr"/>
        <c:lblOffset val="100"/>
        <c:noMultiLvlLbl val="0"/>
      </c:catAx>
      <c:valAx>
        <c:axId val="42433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4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E65-AE7A-43B6-ABE3-1958993E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251-1568-4598-897C-E21FE382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39F3-E145-4D7E-92A2-062895A5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BFE1-B452-4181-B4B5-AE9902BA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B340-CA71-413A-AC41-D3FAA363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150-03BD-4C84-9477-18111ECD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172E-8A89-4A63-8B0E-EF43F5D9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452-835A-431D-A90B-4B14AC76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1F3-3491-4057-8CE4-5D30A4F9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499-2024-42F6-ABA0-AD4F3AA6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5676-163F-410B-A144-2C47185B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EB5-6CC0-4B70-A497-8F0A13A5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F4884-BFF2-4B5F-9542-14F4BE46A0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