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83416"/>
        <c:axId val="83358861"/>
      </c:barChart>
      <c:catAx>
        <c:axId val="73683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58861"/>
        <c:crosses val="autoZero"/>
        <c:auto val="1"/>
        <c:lblAlgn val="ctr"/>
        <c:lblOffset val="100"/>
        <c:noMultiLvlLbl val="0"/>
      </c:catAx>
      <c:valAx>
        <c:axId val="83358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83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403B-CA3C-4516-888C-5B01EF99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126-7823-42F1-AAD1-2F853AB0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D54-FA5F-42EC-B377-A5F907CC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5E5-BB09-4490-957A-E98840A2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C9C-9481-48C8-9552-75D09452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347-DA4A-4695-BB1F-FA68994B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2C0-D2B8-4306-A108-EFCFA8DE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BC5-9C86-4B77-977D-9AC7B30B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A66-DB75-4447-BEEF-0F0004E5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DC1-F0C0-468A-8A3D-66CBEDD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6EC-6A37-4C98-8AF0-3234FAF0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D96-A79C-44CD-9203-7C88B1DD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47C63-7E09-4EC0-B80D-8C59EBB364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