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51696"/>
        <c:axId val="66085851"/>
      </c:barChart>
      <c:catAx>
        <c:axId val="16051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85851"/>
        <c:crosses val="autoZero"/>
        <c:auto val="1"/>
        <c:lblAlgn val="ctr"/>
        <c:lblOffset val="100"/>
        <c:noMultiLvlLbl val="0"/>
      </c:catAx>
      <c:valAx>
        <c:axId val="66085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51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BA1-216C-440C-B325-3402B655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C40-7789-411E-A750-81481CE2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6D9-5898-4E60-ABE3-61CB5176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5FF-F9CF-4C62-8DCF-62D7D18B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8F3-3505-4EA2-9B12-3E17AC76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D30-9A6E-4C28-8235-E29C72D2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849-24BA-47AF-ABF4-6DBF06AA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83A-B0AA-458E-9662-163D6405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D87-C67D-47AC-88C1-1492EF1A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106-D4BA-44E5-8930-857AB3C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F0E-4765-46C5-A17F-1B38DA0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5A4-04F5-416F-BDA3-14C92153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7A809-8482-4092-87AF-3D86B46330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