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79595"/>
        <c:axId val="92801045"/>
      </c:barChart>
      <c:catAx>
        <c:axId val="49379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01045"/>
        <c:crosses val="autoZero"/>
        <c:auto val="1"/>
        <c:lblAlgn val="ctr"/>
        <c:lblOffset val="100"/>
        <c:noMultiLvlLbl val="0"/>
      </c:catAx>
      <c:valAx>
        <c:axId val="92801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9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FF1-4C09-4149-8FB3-EE8C35F5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E30-3995-4153-800D-B8E518A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305-5B01-49FD-8C9C-AE25650B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E01-E1C0-4B0F-A349-0C15CE4E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A36-CCA8-4463-8C72-7A9D1418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AA0-90AA-4D4A-BD06-8048AF0D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D65-7587-4701-A987-69B908B0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F8F-4DFE-4912-80CF-75F8A98C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DA5-DD06-4D28-8C7B-3AD11C77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F54-83C6-4499-9ED1-0E8546E8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263-1B45-4453-9967-E33A1B9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B8F-225F-463D-8C7E-E7306CA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1F02D-5BB3-4616-A08E-AD6A04E16D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