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22873"/>
        <c:axId val="48112005"/>
      </c:barChart>
      <c:catAx>
        <c:axId val="423228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12005"/>
        <c:crosses val="autoZero"/>
        <c:auto val="1"/>
        <c:lblAlgn val="ctr"/>
        <c:lblOffset val="100"/>
        <c:noMultiLvlLbl val="0"/>
      </c:catAx>
      <c:valAx>
        <c:axId val="481120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228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72E5-698F-4AE6-8F99-E64142B1F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9614-8DB9-4DEB-8888-70D4A3DB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800A-667D-42C7-AC2C-03178A8C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801B-13AA-43DA-BCE8-72CC3FA2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2D69-7A21-48ED-A199-52ABBB9F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D437-662D-4A5F-A8B2-30EB2471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5AA4-C4DB-4738-8A54-50C52CFC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1A46-432B-4069-96F2-C77AEB43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ABB5-FE23-4DB7-AB3F-359EA65E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B397-714E-4E20-A783-A1D746AE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6CA0-5C46-43E0-A7BC-133DBB89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439B-8BF9-43C8-976D-D870D60A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D28FE-2021-45E8-8E0C-1D6A1EED2C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