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68142"/>
        <c:axId val="17936755"/>
      </c:barChart>
      <c:catAx>
        <c:axId val="12168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36755"/>
        <c:crosses val="autoZero"/>
        <c:auto val="1"/>
        <c:lblAlgn val="ctr"/>
        <c:lblOffset val="100"/>
        <c:noMultiLvlLbl val="0"/>
      </c:catAx>
      <c:valAx>
        <c:axId val="17936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68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F7C-ED42-4C40-A6DA-8E5CA3C6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05C-768A-4613-BC1A-A6BDDFA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0D9-A506-40FB-BAAC-F23CA779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3E5-F845-4C10-B867-F75B8AA5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4AD-C34C-4C3A-8081-BBBDEB7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EB4-A1C9-4C34-A668-0B346CBB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232-BE01-4CD5-B272-E52B9EBD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9C2-2FEF-4C3F-9BED-DE7487D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980-9DC9-473C-9853-37480BF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257-562C-4B77-90AF-0FC24A8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380-C50E-425A-95A9-9871998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91A-685D-4DBD-916C-F90CDA5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3DBCE-D85C-424C-BFE7-BF6672B636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