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5737968"/>
        <c:axId val="70699808"/>
      </c:barChart>
      <c:catAx>
        <c:axId val="2573796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699808"/>
        <c:crosses val="autoZero"/>
        <c:auto val="1"/>
        <c:lblAlgn val="ctr"/>
        <c:lblOffset val="100"/>
        <c:noMultiLvlLbl val="0"/>
      </c:catAx>
      <c:valAx>
        <c:axId val="7069980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73796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5158-2657-4F5E-BABB-D4BF86807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94F2-C27F-414B-934A-573244A29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E4B0-7A6E-4666-80DB-6D6BA2DAB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70D0-7FFA-405A-B5AD-B9E3B78B0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7578-ECCA-4116-8010-2DC559449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198A-03E2-44FE-9D10-0E46BDBE3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921E-8E14-460A-A6CC-02DA43B03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32FF-6316-4713-B0D2-46271A819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7FFF-66EA-4061-947C-360C7F60A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FD7B-73EE-40E2-A088-F0918B7CA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5173-0CEE-4CC0-97D0-8CB90824C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5480-B761-4EE8-ADEB-64C4539B7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76EB2D-5B28-4E87-81B9-5048D1E8B45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