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02191"/>
        <c:axId val="50701418"/>
      </c:barChart>
      <c:catAx>
        <c:axId val="62802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01418"/>
        <c:crosses val="autoZero"/>
        <c:auto val="1"/>
        <c:lblAlgn val="ctr"/>
        <c:lblOffset val="100"/>
        <c:noMultiLvlLbl val="0"/>
      </c:catAx>
      <c:valAx>
        <c:axId val="5070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2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D68-4AE8-4C85-9779-F52FC74F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083-ACB9-42B9-BB1E-E1BEB0EC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491-FCEB-4875-A913-6245E7F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630-BF76-4EA4-B795-5DF5A62A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724-FAB7-4F98-8543-A3F1BB5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BFB-B580-4F0B-A944-FDB84222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7C3-EAA5-4887-9F9C-E1B08CFE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B2E-F95B-4F36-BF36-CC472371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0D7-5371-4BBF-B781-47F265F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D74-0B10-4237-97B2-652A8D7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083-6941-4577-A1BB-6D8EBB3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741-52C0-4123-AE4F-94CE4EC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E69A8-8F65-4F93-9558-17D162C22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