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73044"/>
        <c:axId val="65605729"/>
      </c:barChart>
      <c:catAx>
        <c:axId val="36073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05729"/>
        <c:crosses val="autoZero"/>
        <c:auto val="1"/>
        <c:lblAlgn val="ctr"/>
        <c:lblOffset val="100"/>
        <c:noMultiLvlLbl val="0"/>
      </c:catAx>
      <c:valAx>
        <c:axId val="65605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73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CCA-4EFB-4028-A03A-C381066C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C59-1E70-4979-9B1E-62EAD0FA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F7C-E643-4551-8917-CA23C6D0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487C-08A0-465B-945F-C9807606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2B4-7ADA-4ADF-B355-2E1C165C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CCD-8E54-4EE6-BEB6-F3C83933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9F3-968A-4B9D-AF92-EEC13E8E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6A4-A37F-44D1-96D6-8463299F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6D36-D0A0-43BA-AE3F-604685FB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8BF-F910-4493-A8C2-C3821C73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EA7-5CA7-4573-B833-B7450F80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E2F-D93D-4629-9C83-822D1910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08F6E-F9CA-47EE-92FF-FCB18A6E34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