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59154"/>
        <c:axId val="50612860"/>
      </c:barChart>
      <c:catAx>
        <c:axId val="35559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12860"/>
        <c:crosses val="autoZero"/>
        <c:auto val="1"/>
        <c:lblAlgn val="ctr"/>
        <c:lblOffset val="100"/>
        <c:noMultiLvlLbl val="0"/>
      </c:catAx>
      <c:valAx>
        <c:axId val="50612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9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B90-BD48-4C6C-A295-F926C1F5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20A-3B1B-41F1-A0DB-B0A14C6F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1A7-FF23-4A7E-B2D7-431B50B4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155-5F59-4D88-80FF-619FEF25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5BD-86EA-4A1F-AB63-5000A7BC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CD9-A004-4F95-BDEB-F0109161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3BD-9DE1-4931-BBA3-2766EB44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114-9C6B-4FBF-9256-A5B305CC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01A-A70F-440D-971E-8D574082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178-F430-4AF1-8937-6BBDF704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C49-8B39-4F98-AE1E-7631B0C6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5BA-33E9-4E98-802F-E40501F1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7FC3A-010F-4E3B-A42C-04F92AC17B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