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73897"/>
        <c:axId val="76263864"/>
      </c:barChart>
      <c:catAx>
        <c:axId val="66973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63864"/>
        <c:crosses val="autoZero"/>
        <c:auto val="1"/>
        <c:lblAlgn val="ctr"/>
        <c:lblOffset val="100"/>
        <c:noMultiLvlLbl val="0"/>
      </c:catAx>
      <c:valAx>
        <c:axId val="76263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73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304-AA3E-4701-B244-6D3FDA65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7E5-F0A1-400A-8033-25D496D1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A1F-C8F1-4BAA-B18F-BEB555AC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87A-0058-4071-8A8B-B020B595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C55-C4C7-4033-8572-914AFC50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C2D-273D-491E-9F8B-8E640358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D93-46A4-4EE7-9CDB-ADCE99C7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7A3-6CFC-418D-823E-2172E301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3F7-4249-4923-9EF9-5D72A637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C8B-B83B-446C-8996-ECAC6B4B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3B4-8576-4E1B-A4F1-FA6DBF0A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0BC-E8C5-40B3-92F0-46AE34A7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1C6DF-729B-4A2E-9D9D-A1A32D498A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