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99446"/>
        <c:axId val="32272957"/>
      </c:barChart>
      <c:catAx>
        <c:axId val="55999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72957"/>
        <c:crosses val="autoZero"/>
        <c:auto val="1"/>
        <c:lblAlgn val="ctr"/>
        <c:lblOffset val="100"/>
        <c:noMultiLvlLbl val="0"/>
      </c:catAx>
      <c:valAx>
        <c:axId val="32272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99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C05-5A26-4B2C-A7F7-86C45C68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808-CC6A-4D42-AECD-3CB7D6A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07E-9171-4C9C-965F-0F8AB584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AC2-BDF2-4487-A416-EE426138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47C-1E4D-4026-AD75-D53084C8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097-C31A-4900-8534-7A1EF1AF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47C-82F4-47D7-A733-1A844900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3F2-73BA-4938-A890-42BA2CF1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186-2787-4FFA-90FF-BB18DD44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D8A-107B-4744-B926-064B5861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4BB-CBB6-4DE2-96E5-B4656418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D48-F927-4E3E-AD1E-9F87C009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EEF62-48EE-42F2-88BB-1EDAA0B2CC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