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94646"/>
        <c:axId val="98533870"/>
      </c:barChart>
      <c:catAx>
        <c:axId val="73194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33870"/>
        <c:crosses val="autoZero"/>
        <c:auto val="1"/>
        <c:lblAlgn val="ctr"/>
        <c:lblOffset val="100"/>
        <c:noMultiLvlLbl val="0"/>
      </c:catAx>
      <c:valAx>
        <c:axId val="98533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4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6C8-9A10-4170-B46C-22FC13C3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639-AD7C-4ED2-BBD1-C6BBA0A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BE8-A5B1-4CE0-8E11-3E7DC05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77B-8A52-4FB4-87DB-8E05665A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919-C4D1-425D-A8D5-D79FD20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F5F-6BB9-47B6-8A14-417B564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2BA-EF5C-4144-9EFF-BC747861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A56-E996-4AAE-AAB6-D91418A9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65E-E5B7-4AE2-A318-5989F27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345-0240-4A0D-8854-5790E31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64F-7402-4312-8B7E-3BE636D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B44-27E1-4BDD-BEA8-9CBC94B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85253-A8B2-4B50-8DBD-71B1614FFE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