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09808"/>
        <c:axId val="39110728"/>
      </c:barChart>
      <c:catAx>
        <c:axId val="77109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10728"/>
        <c:crosses val="autoZero"/>
        <c:auto val="1"/>
        <c:lblAlgn val="ctr"/>
        <c:lblOffset val="100"/>
        <c:noMultiLvlLbl val="0"/>
      </c:catAx>
      <c:valAx>
        <c:axId val="39110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09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765-1B58-40CD-9339-79B564F0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CAA-DB37-4333-89D3-7E956C4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3FC-5824-4D00-9199-A6686E7C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EBD-A2A5-4A97-9226-0BDE862E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DEE-3892-4A12-BD89-F9054062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E8F-9F87-4781-82B7-8B3D79C7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E4C-9FAA-4989-A4D8-FBBAD303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F3D-AFE3-40C7-968F-D8CF474B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268-FB5E-4877-AC38-E94A14C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399-4012-42D9-921E-7B10F3E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66A-9E98-40CF-930D-BAF83FA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3C1-E87D-4184-9FE2-587F0D8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8300-E9E7-438C-A115-3CDD6F897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