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47054"/>
        <c:axId val="40098470"/>
      </c:barChart>
      <c:catAx>
        <c:axId val="79347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98470"/>
        <c:crosses val="autoZero"/>
        <c:auto val="1"/>
        <c:lblAlgn val="ctr"/>
        <c:lblOffset val="100"/>
        <c:noMultiLvlLbl val="0"/>
      </c:catAx>
      <c:valAx>
        <c:axId val="40098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47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DCE-141B-4737-BF0E-BDE26250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C59-2013-4CE8-925B-632EED32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337-5044-4069-AEEB-F6810F87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96E-8621-4F47-9F26-33DBDC1D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26F-01F5-4B8A-AC90-83A262E8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4CB-CA75-47F5-8DC3-4D384E61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901-535B-4280-83F6-68A0E866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36C-73BF-48E6-8F3F-09EFF29E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512-5552-4A0E-858F-9A9EB724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6D0-5298-4D3D-97F6-28A009FA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C2F-3265-4A85-AFB7-ED2229E6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26B-60FA-4159-A0C0-6FC6D4C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D92A7-1B77-43FE-9D30-5758D9E63F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