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5580"/>
        <c:axId val="19130605"/>
      </c:barChart>
      <c:catAx>
        <c:axId val="17465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30605"/>
        <c:crosses val="autoZero"/>
        <c:auto val="1"/>
        <c:lblAlgn val="ctr"/>
        <c:lblOffset val="100"/>
        <c:noMultiLvlLbl val="0"/>
      </c:catAx>
      <c:valAx>
        <c:axId val="19130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5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DDB-7075-455C-B5BB-267E75A4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080-7266-4461-8FEA-5EF5EF3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10A-D1D6-4DFF-AC04-3A079621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EEA-DA38-4B0C-94C0-5C985A99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576-66F1-4FF8-B86D-0E51AA31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5FD-4FF3-44DA-B23F-CD4BA0B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488-7467-4051-90C3-6544872B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B49-2854-4FE6-87B3-CAF6BEF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D01-AD03-4AEA-9191-0F4D843F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A72-49A7-4371-A9AC-BF414FE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504-7865-46F6-8BDB-C3B332C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821-3F71-4561-AC43-B90F4A8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AC607-6576-4F51-B58E-45756D3F1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