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12751"/>
        <c:axId val="93383452"/>
      </c:barChart>
      <c:catAx>
        <c:axId val="25412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3452"/>
        <c:crosses val="autoZero"/>
        <c:auto val="1"/>
        <c:lblAlgn val="ctr"/>
        <c:lblOffset val="100"/>
        <c:noMultiLvlLbl val="0"/>
      </c:catAx>
      <c:valAx>
        <c:axId val="93383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12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662-7353-433C-AB37-BC9524D4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005-42ED-48B6-8EB3-8AC1EE9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E3B3-2414-49C6-BCE1-C3CCA47C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9DD-AEF7-467C-84E6-082E064B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1567-805E-4EBF-997D-9C1EA345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D52-B774-43F7-A325-6261762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7C5-0719-4D81-8D4B-2B7C4F4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A95-1AB3-4292-8F68-9490C73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D12-6E7F-4F20-9B58-D7DFDA6D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A66-DBD1-4653-BBE1-24CD6F6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138-9257-48F2-A51E-9BCC173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8E0-BFBC-43A6-B217-5169E69B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4D68-651D-4AF7-8A09-29B427BDB9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