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27074"/>
        <c:axId val="39551465"/>
      </c:barChart>
      <c:catAx>
        <c:axId val="26270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51465"/>
        <c:crosses val="autoZero"/>
        <c:auto val="1"/>
        <c:lblAlgn val="ctr"/>
        <c:lblOffset val="100"/>
        <c:noMultiLvlLbl val="0"/>
      </c:catAx>
      <c:valAx>
        <c:axId val="395514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70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FBC3-A1A8-4F08-8602-73D448A52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B3CA-9CBD-4662-931D-3BB264D4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722E-D4B3-4CD3-9183-FE4D92B1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BA8E-8C91-4E78-938B-CFC2D88AB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590B-A2C8-4349-9854-704A93BB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7978-2C28-42D4-8D03-83880F79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3018-69AE-4778-9615-BC94C57B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D980-93BC-4E12-B994-7C0606D2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C812-9093-411F-8351-22877F73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CD14-C477-4595-B293-44CD9A4E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6707-B340-43D1-8E7E-8BF1CF24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2669-CEF5-4841-8969-E5D2DFA1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A67EBE-2E77-4BCF-85B3-032A122E82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