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18190"/>
        <c:axId val="69091732"/>
      </c:barChart>
      <c:catAx>
        <c:axId val="37818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91732"/>
        <c:crosses val="autoZero"/>
        <c:auto val="1"/>
        <c:lblAlgn val="ctr"/>
        <c:lblOffset val="100"/>
        <c:noMultiLvlLbl val="0"/>
      </c:catAx>
      <c:valAx>
        <c:axId val="69091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18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EF4-9957-4471-8F9A-D645D08B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1C2-4E1D-484C-9AB5-58B96BD5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574-4E92-4366-A78C-BBF730AC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848-34D0-4DB0-8AA6-8A63BE2E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AA0-8A14-47E0-B712-0E6A13DA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3D4-0C34-46A8-A073-AA87672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E4F-1064-4E67-A114-053C6B3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AA8-0C40-4246-940D-62446FC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79A-0003-4A0B-8A06-9793693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52B-1B3F-4A8A-AFE4-CDD3738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2A2-32E6-4DEF-8DCA-297AC4C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33C-B777-4B4F-8291-5E4BE67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2280-4B0B-4A48-B417-441B837BF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