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692291"/>
        <c:axId val="48621271"/>
      </c:barChart>
      <c:catAx>
        <c:axId val="516922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21271"/>
        <c:crosses val="autoZero"/>
        <c:auto val="1"/>
        <c:lblAlgn val="ctr"/>
        <c:lblOffset val="100"/>
        <c:noMultiLvlLbl val="0"/>
      </c:catAx>
      <c:valAx>
        <c:axId val="486212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6922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DA54-B08A-43D5-859D-68652ECD0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B940-CEBC-49F0-8FA3-587CF3EF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EED1-00F4-41A8-B4BC-29F6010D5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7A7D-83B9-4476-8651-1CEB953C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3B39-CC6B-436A-A77D-94736C85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24D4-7927-49AE-8CAE-41A33DA2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91A1-49F1-4555-A8C4-04FEC9A2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83FA-D98F-4804-9420-5625A311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7119-031C-421B-A426-EEA68007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3285-26B8-4BF8-8436-761D9107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C247-F254-404E-B7E3-E659A6B5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9FCF-8BF8-429E-9E8E-BBF3461F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F4849-C182-46F0-8D1B-0363873460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