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03247"/>
        <c:axId val="54120242"/>
      </c:barChart>
      <c:catAx>
        <c:axId val="82303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20242"/>
        <c:crosses val="autoZero"/>
        <c:auto val="1"/>
        <c:lblAlgn val="ctr"/>
        <c:lblOffset val="100"/>
        <c:noMultiLvlLbl val="0"/>
      </c:catAx>
      <c:valAx>
        <c:axId val="54120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03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E21-8FF7-4E7F-943F-711F7EEA9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789-C9D0-43CB-8718-FDAA583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27E-7236-4743-9632-630F458D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317-D5A0-4964-86C2-56F91325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060-5B6B-47D0-A3DF-8F17448F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523-B76C-4301-B2B2-92F12D03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1FD-4ECA-4352-9CCE-6F74D566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C15-C473-4050-8034-10DF82D8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5D6-C25B-4943-81B9-3821953C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F89-246D-4975-9B5D-F55EC292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015-E845-4435-A0B1-3F6B2081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7EF-0FFA-4161-8E53-B25E0E6F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EB068-59A3-4416-A7A6-C978B659AF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