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56029"/>
        <c:axId val="99162523"/>
      </c:barChart>
      <c:catAx>
        <c:axId val="53656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62523"/>
        <c:crosses val="autoZero"/>
        <c:auto val="1"/>
        <c:lblAlgn val="ctr"/>
        <c:lblOffset val="100"/>
        <c:noMultiLvlLbl val="0"/>
      </c:catAx>
      <c:valAx>
        <c:axId val="99162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56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4C8-A245-4207-BD8E-596116E2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754-0D55-4A4F-BB70-EF33CD29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DFF-96C5-4C92-89B9-EB2AD917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88D-3FA9-4DB5-AA84-96DEA03C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A4E-E167-4A22-93FD-7DDA1B9A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0B4-2A3A-465C-9F97-C4152576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FC1-FFA9-4908-9439-E2D5E91B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9D7-0BBE-46CE-BB8F-10B6C669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026-0457-439F-9242-25CD529F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EC5-4A97-4471-95EC-1F8B62D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E05-65F9-425C-AA86-B7C02219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89C-4153-4782-A992-7247603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C9195-C62F-46A2-9D0A-5DA39C04F8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