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68565"/>
        <c:axId val="36414110"/>
      </c:barChart>
      <c:catAx>
        <c:axId val="22368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14110"/>
        <c:crosses val="autoZero"/>
        <c:auto val="1"/>
        <c:lblAlgn val="ctr"/>
        <c:lblOffset val="100"/>
        <c:noMultiLvlLbl val="0"/>
      </c:catAx>
      <c:valAx>
        <c:axId val="36414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68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0BD-67A4-4746-85CD-B55DB31A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0BE-067D-4A0D-8167-E8D2509F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477-9199-419F-ABBC-E0052C9C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FC1-777A-44AF-BCE6-87731B20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B40-82C9-45C4-A5C4-302E66AC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C48-8C05-4382-8261-FFD0AA3C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E4D-250A-4390-A7FA-050BC9CE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8DB-6FE7-4E74-A3A5-AE2C4AAC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CE5-C9B6-4D46-8D8F-31C87E61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01B-EEB5-4506-AE33-2357650F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479-005D-4E51-BBCE-FFB325CC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DDD-97B6-45C9-ACED-34EA697B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05BEF-F3BA-40CC-A51D-CE8C97DAEE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