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46167"/>
        <c:axId val="98118253"/>
      </c:barChart>
      <c:catAx>
        <c:axId val="64946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18253"/>
        <c:crosses val="autoZero"/>
        <c:auto val="1"/>
        <c:lblAlgn val="ctr"/>
        <c:lblOffset val="100"/>
        <c:noMultiLvlLbl val="0"/>
      </c:catAx>
      <c:valAx>
        <c:axId val="98118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46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A3D-3602-4F4A-A535-2F2CE304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BE9-D9DD-4727-973F-EFF5AD22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71A-1D3C-4654-B261-782D87D8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316-9BD7-427F-8E21-C5868E36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449-CA6C-4EAF-AD9B-C70E754E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FA1-BC24-45DF-96F4-6B063B65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127-5A57-440A-A307-12B38EA3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3AA-242D-4C67-BCE5-87351750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051-1129-4F51-A08C-2382D018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6BC-4F6E-44B2-8CF4-3A3BB96E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D50-4426-4712-A28E-589EF3F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FD8-C240-4CED-BC9C-F8ACBFD7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3363A-C633-4EAA-B397-5B647DDFF5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