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02557"/>
        <c:axId val="76857912"/>
      </c:barChart>
      <c:catAx>
        <c:axId val="85402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57912"/>
        <c:crosses val="autoZero"/>
        <c:auto val="1"/>
        <c:lblAlgn val="ctr"/>
        <c:lblOffset val="100"/>
        <c:noMultiLvlLbl val="0"/>
      </c:catAx>
      <c:valAx>
        <c:axId val="76857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2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C5E-9F80-40CD-BB01-5A2F6A1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3D2-D6ED-44BD-97F0-0BCBAAA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15-8E84-4861-94C5-2E03707A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388-D215-42AF-AD6D-DD57D26D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7C8-3065-4718-B2F7-C47EBD9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E9D-D140-4112-98C1-3842AD0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1DC-6291-40E9-8457-35203F6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653-4BD5-424B-9633-602299C5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341-3BC7-4A13-8DB7-6AB9E6F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CC0-A23B-4BEB-A7D4-711D7AA9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B07-A708-44D0-9B0C-0890BC3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49D-66AB-4120-87CE-CB0CF70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76A87-3F13-41FF-B15A-41B4883239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