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9257"/>
        <c:axId val="84067291"/>
      </c:barChart>
      <c:catAx>
        <c:axId val="8989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67291"/>
        <c:crosses val="autoZero"/>
        <c:auto val="1"/>
        <c:lblAlgn val="ctr"/>
        <c:lblOffset val="100"/>
        <c:noMultiLvlLbl val="0"/>
      </c:catAx>
      <c:valAx>
        <c:axId val="84067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9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E14-9255-4AD1-82CF-70C3F11F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D73-91DC-47DA-8679-C0C1D3B2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1E5-2F52-4BF3-BCCE-661743BF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A4F-E737-492D-952D-4E6D26E6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31D-EC2B-4B01-A0E4-8B16326B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EFD-CF47-4DE3-B407-8FA952AF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5C2-69AF-4F04-BBF6-CE41C155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9DA-0FEB-4616-B83E-1C8CEF19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177-0ADF-4A6E-B7CA-43F05B5D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2E5-E3AD-43D4-95CA-85669955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CC6-79A5-4833-B158-3A23FAB6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6EB-DD55-4F31-840B-F202954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E05B8-2255-496E-8F04-D866E720ED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