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517364"/>
        <c:axId val="82335052"/>
      </c:barChart>
      <c:catAx>
        <c:axId val="735173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335052"/>
        <c:crosses val="autoZero"/>
        <c:auto val="1"/>
        <c:lblAlgn val="ctr"/>
        <c:lblOffset val="100"/>
        <c:noMultiLvlLbl val="0"/>
      </c:catAx>
      <c:valAx>
        <c:axId val="823350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5173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C73D-7734-436F-94BF-C34B1F55E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0105-3896-49AC-8CF0-80C444823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A701-60AA-4F2D-9FBD-752378E1F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F9B4-3043-4FF6-AA0E-57D513933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8463-F4ED-4301-BE85-AC158A5A1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1AD1-51DF-4206-8DF9-28F4C5F26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140A-57BA-4298-AA47-CD4835506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1FE1-61E4-4078-A27F-A9A84549F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160A-B400-40FA-9CE6-7A1515C5A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A6B6-0592-4CF5-B9C2-B3BB81CE5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8D59-C847-4BD1-BB2F-275036C7C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128C-95C2-49CA-BEAE-6FAF51083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706F51-7E7E-46CC-8DA1-023C8CDF6BF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