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0566"/>
        <c:axId val="25043755"/>
      </c:barChart>
      <c:catAx>
        <c:axId val="95505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43755"/>
        <c:crosses val="autoZero"/>
        <c:auto val="1"/>
        <c:lblAlgn val="ctr"/>
        <c:lblOffset val="100"/>
        <c:noMultiLvlLbl val="0"/>
      </c:catAx>
      <c:valAx>
        <c:axId val="25043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05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E72-9E9F-4F3B-BEEB-BBFEA075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299-741B-460F-AFE0-989B6146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2142-995A-41D2-A21A-9077AD12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8EEC-26B4-4C76-AC83-DB24D2F7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0B5-C06A-439E-8A2A-810E9781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7ED-5B73-4C28-8782-BDFAE8A5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90FE-AAC9-43AE-BF73-8D27B14A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978-FBD6-4AD8-A7A1-234DA1BA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F5B3-C618-42F4-8A3B-59F37A35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1BD-9C95-4D56-8BBD-2ECEF029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009-8BEC-4BAB-AF1E-A801FB3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7834-1A53-4010-AD72-74379DD2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4F7EE-0D03-4942-B97B-270C249113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