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541281"/>
        <c:axId val="46169167"/>
      </c:barChart>
      <c:catAx>
        <c:axId val="72541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69167"/>
        <c:crosses val="autoZero"/>
        <c:auto val="1"/>
        <c:lblAlgn val="ctr"/>
        <c:lblOffset val="100"/>
        <c:noMultiLvlLbl val="0"/>
      </c:catAx>
      <c:valAx>
        <c:axId val="46169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41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9882-36C9-4A08-8CE5-D1035E65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2CE0-453D-4262-83C9-7B1C1149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7D68-094E-44BB-B1D0-BC689461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1EAA-EDFF-47BF-B913-FEA98DDA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09AB-2EF5-4C35-A386-4FB19840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363-26A9-4F70-9884-6C2322DD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1EB-A205-4BB0-8C98-1B3A55CD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DC2-77BF-4C8B-B95C-02E5A9F6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38D-A806-453F-8CAE-CA4886FC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964-C201-428F-8DA1-A2B709F0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882F-672A-4C28-B2F1-C24D34D5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EB6-B5E3-4C49-9D28-99857C47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ADD03-464A-4D7F-AD10-91C0B87BE2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