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86323"/>
        <c:axId val="87162811"/>
      </c:barChart>
      <c:catAx>
        <c:axId val="44786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62811"/>
        <c:crosses val="autoZero"/>
        <c:auto val="1"/>
        <c:lblAlgn val="ctr"/>
        <c:lblOffset val="100"/>
        <c:noMultiLvlLbl val="0"/>
      </c:catAx>
      <c:valAx>
        <c:axId val="87162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86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609-D38E-42AE-9BE3-775A54F9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0B0-5342-498C-BC20-672FA43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238-8BF5-418B-ACAE-B8E29873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7C2-91C8-480A-B9E7-49369EF0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509-30D7-4313-A381-888546A6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E60-A2B1-44ED-9726-1BC77FF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8C7-73E0-4FBC-8743-68D0871E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0EF-8D8A-40C1-B05C-1430E02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A6C-B5AC-49B6-BABE-B7D9B2C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798-9698-4DED-A2B0-74EEBD2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C19-E605-47B5-B658-887EE04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574-7DD3-4705-91FE-0011818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EA83-2D2F-4B6E-9F99-C7D88133E9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