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74218"/>
        <c:axId val="98708370"/>
      </c:barChart>
      <c:catAx>
        <c:axId val="96374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08370"/>
        <c:crosses val="autoZero"/>
        <c:auto val="1"/>
        <c:lblAlgn val="ctr"/>
        <c:lblOffset val="100"/>
        <c:noMultiLvlLbl val="0"/>
      </c:catAx>
      <c:valAx>
        <c:axId val="98708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74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752-5820-4985-9501-BA7AF40A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52B-40C8-4958-A635-B3A97BC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F3D-8E57-4880-B69E-F7296532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359-FBB8-4BEC-9F2A-70A09DDC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56-835E-4F36-BEC2-22579A0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E71-CBCD-4EA9-A62E-926693C1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4C6-CF2A-4EC8-B005-ECC62D24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305-2DFF-4DE4-8BF9-B262AA6C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EA9-4531-4BC4-B81B-6A98270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1DC-4536-460C-920B-2F27996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E9C-FB2D-4C86-AEE7-5394E12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812-42F0-4FD1-B23F-FB1F4CB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1CD2-931F-463D-AC6A-A4A81DE13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