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1194"/>
        <c:axId val="67569043"/>
      </c:barChart>
      <c:catAx>
        <c:axId val="70591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9043"/>
        <c:crosses val="autoZero"/>
        <c:auto val="1"/>
        <c:lblAlgn val="ctr"/>
        <c:lblOffset val="100"/>
        <c:noMultiLvlLbl val="0"/>
      </c:catAx>
      <c:valAx>
        <c:axId val="67569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1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1E4-2FE3-443F-B4AA-19B3C20A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F5-E269-43C7-9CAD-5994DF4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795-A947-4651-AC87-F6F357C7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FBC-F090-46EB-BA83-624F1CE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15E-015D-410A-B3BD-D9F6DCE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CB8-CE9C-4884-AD1F-59E42B4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B43-82FD-4D15-ADCA-08B658D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DB1-1DFC-4287-92AB-27369F5D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8CF-96DB-4AE2-A468-57DAD89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E06-DA11-4D95-BF76-2B15B3D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19E-4AF0-4031-AF61-F6FA725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874-BBE2-4301-B444-C3ABC7F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D1356-56B0-4AC2-BC14-DA1EAB257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