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07593"/>
        <c:axId val="12768515"/>
      </c:barChart>
      <c:catAx>
        <c:axId val="39107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8515"/>
        <c:crosses val="autoZero"/>
        <c:auto val="1"/>
        <c:lblAlgn val="ctr"/>
        <c:lblOffset val="100"/>
        <c:noMultiLvlLbl val="0"/>
      </c:catAx>
      <c:valAx>
        <c:axId val="12768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07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400-BA3E-4D44-B31E-DF12AC99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EAE-4103-4628-AEDF-0388424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8DA-57C3-4559-8242-520067B4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01B-8BCC-4F27-818D-693B85C8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E2E-9962-4332-9FD9-AD8F403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DE2-A610-4BE5-84BE-A4B3E48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924-D357-4250-A966-3DC47C20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F48-1CDF-43D8-87D4-5D236B70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078-CBDA-4199-9FDB-2F1BAFA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A9F-66C2-42A3-8036-74E7B1D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79A-A7F3-4DB9-8282-FC1F0168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810-FC7A-4ACB-A4A5-93167F7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BA105-D921-4CCF-B9CD-AF88E80E9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