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07744"/>
        <c:axId val="33339562"/>
      </c:barChart>
      <c:catAx>
        <c:axId val="34107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39562"/>
        <c:crosses val="autoZero"/>
        <c:auto val="1"/>
        <c:lblAlgn val="ctr"/>
        <c:lblOffset val="100"/>
        <c:noMultiLvlLbl val="0"/>
      </c:catAx>
      <c:valAx>
        <c:axId val="33339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07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5DD-F4DD-417F-A357-A0FE9874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AA6-F468-4B86-A773-012B7FBC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855-0DB5-45B0-B959-9FF25C2F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A07-2F78-4830-BC98-D9B04576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A85-3660-47C3-BFB9-E2D18F96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118D-1227-4026-93D6-DFC6153B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2E4-7B96-4270-ADED-F4F0A7FE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5EE-B57C-4EAC-A1B9-AA15F62E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B5A-0821-4EF8-A594-83FD543C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AB5-2B3E-46A2-AD4D-6AF0312E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393-283E-4113-A392-E25BC8E5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F4B-B922-4261-91FC-5465925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4475B-D010-49AC-9DAE-291E635626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