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6698"/>
        <c:axId val="93567227"/>
      </c:barChart>
      <c:catAx>
        <c:axId val="7666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67227"/>
        <c:crosses val="autoZero"/>
        <c:auto val="1"/>
        <c:lblAlgn val="ctr"/>
        <c:lblOffset val="100"/>
        <c:noMultiLvlLbl val="0"/>
      </c:catAx>
      <c:valAx>
        <c:axId val="93567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6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456-0D28-4161-9A8F-07F465A1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466-1B45-4D90-9BBE-85036E86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DFB-20CE-46A3-AFA7-1549DFAF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DB6-E89F-494F-A4C2-4175F9E1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BA9-526A-4D84-8FE9-3296390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723-9254-4A0B-AF27-567600AF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0DC-52B1-4BA1-99DA-2745E7F7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0A1-CFAE-47E0-BE50-7FCE8F2C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8D2-AF32-48D2-B758-E0FC437B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7CE-661F-4BB3-B7F5-13C1BE6A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BC9-1C9E-4F92-8D3C-7AC9596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F93-1B5D-41EF-A5A7-CBD74344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1DE51-56E1-4125-95E6-8F7F4EF298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