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97371"/>
        <c:axId val="48450559"/>
      </c:barChart>
      <c:catAx>
        <c:axId val="74497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50559"/>
        <c:crosses val="autoZero"/>
        <c:auto val="1"/>
        <c:lblAlgn val="ctr"/>
        <c:lblOffset val="100"/>
        <c:noMultiLvlLbl val="0"/>
      </c:catAx>
      <c:valAx>
        <c:axId val="48450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97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2B5-CC09-4FAD-B6A0-1BB17985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1AC-E126-4E57-A0A9-3F10679F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065-DA6D-446C-B5BD-C38BB235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DFC-0ED3-448B-99FA-FE1E0232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D71-0B29-4813-A5FF-153B4048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1FC-BC75-4CB0-8D55-6CA2CFC6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0CE-EF7C-41FB-95E7-7A5E8B26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98B-7C08-4481-AE7D-C837C049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B23-A2A3-4EF4-B702-1498C1AC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E9E-67FE-4969-A53E-FDEE062D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F66-5F0C-4FD6-A581-4F16372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517-D2F7-4EF4-9885-CACD0227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EEBD0-BB25-4ED2-A6FD-32FDAF348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