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84399"/>
        <c:axId val="87586456"/>
      </c:barChart>
      <c:catAx>
        <c:axId val="45884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86456"/>
        <c:crosses val="autoZero"/>
        <c:auto val="1"/>
        <c:lblAlgn val="ctr"/>
        <c:lblOffset val="100"/>
        <c:noMultiLvlLbl val="0"/>
      </c:catAx>
      <c:valAx>
        <c:axId val="87586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4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BE2-B844-4D6B-9DDA-127F542A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EBD-FA05-4BDF-842D-536AB0D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9AC-CD54-4D1E-B60D-44C50496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728-0545-4C33-A9A5-C69E14BE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197-A9D4-4AA8-BF5C-C69B63E5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B50-8B4C-4349-9681-F6CEBB31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588-142F-41D5-A70D-44CFBC20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75C-53E1-4B57-9C90-3604C8EF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113-A58D-42FA-BD1C-091ABBDB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0C6-0466-4934-9B32-75ABF128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28A-5E49-4AFC-9D64-6425BB8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597-29B2-413A-BCD5-FBCA9DFA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18884-E499-4F4C-B38C-D7A989A1F9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