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8631"/>
        <c:axId val="53038720"/>
      </c:barChart>
      <c:catAx>
        <c:axId val="4378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38720"/>
        <c:crosses val="autoZero"/>
        <c:auto val="1"/>
        <c:lblAlgn val="ctr"/>
        <c:lblOffset val="100"/>
        <c:noMultiLvlLbl val="0"/>
      </c:catAx>
      <c:valAx>
        <c:axId val="53038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8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419-B226-4C3D-AE6C-38B405D6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C4C-DEA9-4D50-AF78-33C0BC8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BC7-9F2C-4090-BE8D-1940FD82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AA4-7A40-463B-95AA-1B5DBE62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151-4ECD-4361-AFCE-57A0E4D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E63-68DD-49EF-9A2C-F73D763C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95-4642-41EF-B5C5-CE3C2A04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06B-DC2C-41C6-BE7D-C4DBF189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C68-81E6-4CA9-BFC1-DED6C4B6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A8C-2688-46DA-ACFC-B7F41B9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50E-14C0-4037-B71C-861CB9C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AC3-EBF5-4ED8-82A5-0AB8EFB2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4D87-A1DB-4795-B183-9CC04C98E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