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74010"/>
        <c:axId val="3313870"/>
      </c:barChart>
      <c:catAx>
        <c:axId val="45074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870"/>
        <c:crosses val="autoZero"/>
        <c:auto val="1"/>
        <c:lblAlgn val="ctr"/>
        <c:lblOffset val="100"/>
        <c:noMultiLvlLbl val="0"/>
      </c:catAx>
      <c:valAx>
        <c:axId val="3313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4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0C-2E0D-441E-A3B0-1398FE5A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7A3-6315-4393-9D3E-D2962D92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E9F-91BC-4955-A731-99784C6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DAD-C7C7-4A4B-8FBA-6791B0A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FF5-2353-4AC5-969C-9C06019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A53-C542-4A78-B1CC-C219E64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B7B-9191-433D-812B-13618BA3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A4E-6B95-4DC3-8D31-CB66F56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886-3AAE-428A-9909-4DBA62C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8BB-13F4-4744-B23F-8126FEA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FFB-D125-4780-B58B-40D18BE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68D-38BA-4BA5-8EE2-320C9DAE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5A3CB-08E0-478C-94B0-E58F42A930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