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21329"/>
        <c:axId val="21470076"/>
      </c:barChart>
      <c:catAx>
        <c:axId val="37521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0076"/>
        <c:crosses val="autoZero"/>
        <c:auto val="1"/>
        <c:lblAlgn val="ctr"/>
        <c:lblOffset val="100"/>
        <c:noMultiLvlLbl val="0"/>
      </c:catAx>
      <c:valAx>
        <c:axId val="21470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21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AA0-2337-4F01-9513-930F1F6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11E-BA9A-4BF9-B890-98B4D80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083-F32C-4F88-AD76-21765027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D2A-0C0D-49BD-8AA1-8EC70990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EAB-B585-468E-A1DD-A7030D7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EC5-E120-4C12-BFD8-47B5FE9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539-79A9-4B2E-B9D4-C2E384B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8C6-3B9A-405D-8E6A-9C19A26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5AB-9018-4F5D-9A89-BB7C4280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939-1793-4A27-9861-ABE2E0B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142-8559-4C30-8455-69DCC34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496-7719-42D1-B979-D7C907F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D18E2-476D-4D7D-95F1-0C9B62313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