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60171"/>
        <c:axId val="69308199"/>
      </c:barChart>
      <c:catAx>
        <c:axId val="19560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08199"/>
        <c:crosses val="autoZero"/>
        <c:auto val="1"/>
        <c:lblAlgn val="ctr"/>
        <c:lblOffset val="100"/>
        <c:noMultiLvlLbl val="0"/>
      </c:catAx>
      <c:valAx>
        <c:axId val="69308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0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26B-DDDD-49F1-8926-3AFF2527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403-835D-4C6E-8603-748A499A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2CA-0B88-4E8E-AD46-B5DE7A94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52D-357A-41C2-B78F-FBCD3666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B11-0BC5-4839-B7E1-851A95B8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022-75DE-4A26-A2BB-D8562D4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F18-ABFF-446D-896F-6C90F45B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ED9-A9A0-4607-A5BF-E22FF7B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AB9-5384-43A6-9522-AAD3C69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0D9-1A33-497B-835C-52879CD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D56-277C-4781-9F42-E5EF031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8D0-79B9-4E08-82C4-CC7F9EE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33866-AADE-4F89-9F42-E625957C2B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