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557401"/>
        <c:axId val="49501563"/>
      </c:barChart>
      <c:catAx>
        <c:axId val="485574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501563"/>
        <c:crosses val="autoZero"/>
        <c:auto val="1"/>
        <c:lblAlgn val="ctr"/>
        <c:lblOffset val="100"/>
        <c:noMultiLvlLbl val="0"/>
      </c:catAx>
      <c:valAx>
        <c:axId val="495015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574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E208-3FBB-4A6C-B8DF-5DC12A648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ED82-1C7C-421C-9341-8C8FD7EA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37BB-9201-4859-B6F1-93B3D6DDD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FFE9-4097-495E-8887-C5ECD209D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77D1-BF23-408A-B7AD-AC18C49F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C47E-2C9E-43BF-8FF2-0DF9212F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5E77-7A49-4FAF-BD54-3BBCC461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0422-48B3-416A-809E-396201EA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38B4-3AAB-4ACB-B80F-BA1D91BB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81CC-86CA-4D89-8CD5-F8077FA8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9763-F9F2-49CF-82DD-2C5F4E4E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A3CE-33A1-44F5-9869-5BFA5B25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C47D8-57A6-44B2-87FB-600C34CDED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