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1717635"/>
        <c:axId val="27929213"/>
      </c:barChart>
      <c:catAx>
        <c:axId val="6171763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929213"/>
        <c:crosses val="autoZero"/>
        <c:auto val="1"/>
        <c:lblAlgn val="ctr"/>
        <c:lblOffset val="100"/>
        <c:noMultiLvlLbl val="0"/>
      </c:catAx>
      <c:valAx>
        <c:axId val="2792921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71763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92003-101E-428B-A7FF-1E8BC31F7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E89C0-7793-47CE-AD20-1E3F57488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1521B-05A8-4B02-93A1-3D0D65B62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8B541-72B6-4008-9513-72AA530CE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3AF72-138B-4D07-A32E-507FBD7A8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83ABB-DD3C-4BBC-927B-E327507C6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BF6F7-342F-443F-883A-A51DF6D86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15B7C-885E-4AB3-B0F2-FCAA1ABE2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83E72-E901-49ED-BCC7-5AD804D5F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B53F7-16A9-424A-9745-DC2F83038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FA10F-2C9B-4DE2-83DB-F6CFC1135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11C81-E6F2-4994-AE88-355640BCA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2BC766-AD30-46A4-98D6-3ABDA329578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