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7476448"/>
        <c:axId val="14132571"/>
      </c:barChart>
      <c:catAx>
        <c:axId val="2747644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132571"/>
        <c:crosses val="autoZero"/>
        <c:auto val="1"/>
        <c:lblAlgn val="ctr"/>
        <c:lblOffset val="100"/>
        <c:noMultiLvlLbl val="0"/>
      </c:catAx>
      <c:valAx>
        <c:axId val="1413257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47644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6959-E084-4110-A0D0-F065A9BDE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DF66-617C-45E1-9322-1767BBDF6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A52A-1465-4C4D-A111-3AE1A7500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9C6F-73E9-4E8F-8836-3B79D2EC6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9DD0-461E-430C-9A93-A28355D55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6665-7502-4CA2-B1FD-554FC543F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2609-94FF-4219-8F47-1283D678D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FE2A-848D-4266-BC3A-6AB388886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9375-5F4B-44D5-AA5B-79435A4D3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0872-8195-45CB-84E2-F6788FBB7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AD16-575D-459F-B114-7AE38778B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8556-5E0F-44A5-9C8C-AF8D44DAF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F56121-894A-472C-8840-E124DF26E54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