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1700"/>
        <c:axId val="4221333"/>
      </c:barChart>
      <c:catAx>
        <c:axId val="5421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1333"/>
        <c:crosses val="autoZero"/>
        <c:auto val="1"/>
        <c:lblAlgn val="ctr"/>
        <c:lblOffset val="100"/>
        <c:noMultiLvlLbl val="0"/>
      </c:catAx>
      <c:valAx>
        <c:axId val="4221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1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C98-7AE8-4DC5-97C0-8632B7F9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A4D-698C-440F-B200-96C4FAF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1A7-9ED7-490E-B64C-0E8DDEE3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05E-568F-4F17-B1C2-D7EA1429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F9A-9340-420E-9BFF-E729BAE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F06-26D2-405C-A916-3B5A061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633-6560-4EE8-91C2-2343F3C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AF2-017C-443E-AC9A-34C1696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489-71BC-4746-AF65-CBBAF37E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589-4350-4398-B8BD-8D83F3D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9A4-3FFC-4263-9C79-3D15FEC9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A9B-963A-41CA-9F1A-E7E33B9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3E33-F620-4C0B-A336-7AD5416B96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