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706014"/>
        <c:axId val="36155461"/>
      </c:barChart>
      <c:catAx>
        <c:axId val="767060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55461"/>
        <c:crosses val="autoZero"/>
        <c:auto val="1"/>
        <c:lblAlgn val="ctr"/>
        <c:lblOffset val="100"/>
        <c:noMultiLvlLbl val="0"/>
      </c:catAx>
      <c:valAx>
        <c:axId val="361554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060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83FC-0BE8-49C4-BB70-B2951DD6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8078-9D0A-494D-B2C4-E8B4A364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752D-DB9D-401A-B331-FF8681CCF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AD9A-A3E4-4AF4-B397-0D2C95FD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C97B-F1AD-49F5-8552-3D8AF565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CBA9-1341-4B7A-97B3-8C24DF20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9925-BD25-4A88-AD15-C8E3868F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5C2E-4485-437B-BC83-B9BCB73F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5A0D-76FE-4A5A-8E95-A5710A87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2551-694F-4501-8D42-E2CF4E17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FD27-8E0A-4D87-A0B7-136741B6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8FB1-5448-41E1-9B67-09221A83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9C757-C8BE-452A-888A-C81A990FB9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