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79944"/>
        <c:axId val="60988346"/>
      </c:barChart>
      <c:catAx>
        <c:axId val="51779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88346"/>
        <c:crosses val="autoZero"/>
        <c:auto val="1"/>
        <c:lblAlgn val="ctr"/>
        <c:lblOffset val="100"/>
        <c:noMultiLvlLbl val="0"/>
      </c:catAx>
      <c:valAx>
        <c:axId val="60988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79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B70-643C-4A1A-81DD-E0E74A4F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874-1B21-487D-B747-49B65752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528-FFA5-4605-9348-858EC47F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D4E-EE77-4299-8AE7-812D4285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1BD-129B-494D-BA1E-B6DEF02E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895-388B-4F5E-9C02-58D2311B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7B9C-B811-4C8B-8425-D10A2D8B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393-C6E1-4EE7-84FB-9DA0B248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AC0-3668-47E7-A923-3FBA0E27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BE2-7647-4755-A404-2BC96DFD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D33-DCF8-4A27-A676-15C623C8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39C-6FA7-488D-92EA-1F84F946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EB418-5630-41D3-9A70-ACAF0D1AEA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